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E41-4CD5-4E5D-B3F0-9544C15F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B87-E196-4F2E-83C8-59EE50F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ABD-6D39-449B-9A87-87DE4FAD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AA9-EA44-4B82-980B-947DF6B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FE9-D754-4528-917D-6AB66817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0EE-B63C-4230-B2FE-4F74DE0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BA5F-3226-4984-9460-640B3865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87BF-BC4B-4D7D-9002-EB24591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0011-0C30-4F54-B725-F7616E0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99A2-EE17-44FE-8C25-CC734A19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9F7E-87B9-43A1-A38B-CA0EA35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602-6A29-44AB-9102-32BA24B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934-BDB9-4C60-B3E2-8B09763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A0A1-39BD-4F31-B25E-BC2D147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4E89-951D-4EED-B82C-F816B4E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E09-1422-49C0-B3E1-BC9E2FBB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4D5E-ACAC-4A96-AB15-689D9FB0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D4E-4973-4FFC-883A-0DB56DD9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887-496A-4A9C-A02C-254D051D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95E-0CC3-4553-9CB3-6812872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44-919A-46A7-B2F5-5F2ED7C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01F-0930-4C58-A1A1-D99DD7D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5F8-4F2A-4D6E-9DA6-A61C5C9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A12-5970-4124-9697-0C3FEB9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62B-15E9-4D04-8C7A-774E03C2C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2FF-DE5C-47A9-941D-5D05E9E22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o do a 9 panel storyboard and how improv is a necessary component of any good prank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in any story, a good improvisation (improv) has characters, a setting, conflict, and a beginning, middle, and an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4 people (a nurse, a patient, a baby, and a mother).  Then use improv to act out the following 9 panel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 A female nurse talks to a male patient in front of a hospital on a h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 woman in a car slowly drives up to the hosp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Suddenly, the woman jumps out of the car, lays a crying baby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 The woman gets back in her car and speeds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he baby starts to roll down the h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The nurse and patient run down the hill after the baby and catch it just before it gets hit by a c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he nurse holds the bab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The nurse pulls back the blanket to see that it’s a d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The nurse stares at the baby in sho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Like in any story, a good improvisation (improv) has, at least, what four ele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0-11-30T14:32:42Z</dcterms:modified>
  <cp:revision>54</cp:revision>
  <dc:subject/>
  <dc:title>Legacy Life Skills</dc:title>
</cp:coreProperties>
</file>